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7.gif" ContentType="image/gif"/>
  <Override PartName="/ppt/media/image12.jpeg" ContentType="image/jpeg"/>
  <Override PartName="/ppt/media/image11.png" ContentType="image/png"/>
  <Override PartName="/ppt/media/image6.png" ContentType="image/png"/>
  <Override PartName="/ppt/media/image13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3.jpeg" ContentType="image/jpeg"/>
  <Override PartName="/ppt/media/click.wav" ContentType="audio/x-wav"/>
  <Override PartName="/ppt/media/image20.jpeg" ContentType="image/jpeg"/>
  <Override PartName="/ppt/media/image18.png" ContentType="image/png"/>
  <Override PartName="/ppt/media/chimes.wav" ContentType="audio/x-wav"/>
  <Override PartName="/ppt/media/image24.png" ContentType="image/png"/>
  <Override PartName="/ppt/media/image19.gif" ContentType="image/gif"/>
  <Override PartName="/ppt/media/image1.jpeg" ContentType="image/jpeg"/>
  <Override PartName="/ppt/media/image21.png" ContentType="image/png"/>
  <Override PartName="/ppt/media/image16.gif" ContentType="image/gif"/>
  <Override PartName="/ppt/media/image15.png" ContentType="image/png"/>
  <Override PartName="/ppt/media/image14.png" ContentType="image/png"/>
  <Override PartName="/ppt/media/image2.png" ContentType="image/png"/>
  <Override PartName="/ppt/media/image22.gif" ContentType="image/gif"/>
  <Override PartName="/ppt/media/image2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A96D8-42EF-4BE8-B121-56149D719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4492D-D82D-40D8-B2E9-E0DF01306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6399E-CBE7-4661-9F61-03C1556F7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D8B97-590F-419A-973B-4F052CDBB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2A57E-CF61-4303-8EBE-7C14C5649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DB6D8-8AE9-4970-AE54-724DEE9F2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CD2E6-1B4C-452A-B67D-6C8784EA1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7FF27-0EAA-4DB7-8C24-EB80DF92A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A08F1-1EEC-4E48-ABE8-47C835A98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AE417-9A04-45BF-A539-D335AE0EB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E2DF1-CD4A-467E-A09B-2813981F3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C8227-4C3B-47A3-959A-96577878B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3514E-E862-4CF9-8D1C-893CF656B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53EBC-BB47-4364-80A9-2FF8C974F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115A0-3B8C-4972-9204-73CB1198E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2D750-8A9A-4651-9305-9B6282595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CDE65-1C90-4132-8A39-0D6DE7AAB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9A9082-BD70-4F5A-AB7B-DE73A611E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AF1F03-3470-4E7C-93D3-22AFDA216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7AD422-D58E-4CC5-8F96-C81519089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941EDB-9B37-4374-812A-D758D5FCA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59D836-1B22-47E6-8BF6-1593D7ABE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C6448-E11D-4179-B4CB-FDE1F1D51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CD79DE-9219-414F-B09E-5295A3F55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E6850B-662D-42AF-95AD-625BBDF9C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2AD306-F771-45AD-A768-2B774BB61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3AC08B-DF41-4563-888E-E67563F26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7ACEC8-9720-4DBE-AFB8-010197C93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E84679-58DA-4FE3-BD24-04589BA1F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A679FB-6184-4DF2-85F5-F35FF9224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67C43-FF9E-417E-9547-61254E66B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371BF-02BD-448B-A8CD-5D7A4EFF5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3D46A-F93F-46C3-9ECD-2AD3238C5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3F7D5-05B1-4185-855C-E1C76718B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1B5EE-C89B-446A-AC50-9393B2D0E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23DBD-718E-44D1-8993-7D2EE190B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9D0EC-033F-4876-BCCD-E8DD253056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42" name="Freeform 1027"/>
            <p:cNvSpPr/>
            <p:nvPr/>
          </p:nvSpPr>
          <p:spPr>
            <a:xfrm>
              <a:off x="27000" y="1109520"/>
              <a:ext cx="9148680" cy="757080"/>
            </a:xfrm>
            <a:prstGeom prst="pie">
              <a:avLst/>
            </a:pr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Freeform 1028"/>
            <p:cNvSpPr/>
            <p:nvPr/>
          </p:nvSpPr>
          <p:spPr>
            <a:xfrm>
              <a:off x="19080" y="1265040"/>
              <a:ext cx="406440" cy="40176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Freeform 1029"/>
            <p:cNvSpPr/>
            <p:nvPr/>
          </p:nvSpPr>
          <p:spPr>
            <a:xfrm>
              <a:off x="108000" y="1109520"/>
              <a:ext cx="1123920" cy="72864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Freeform 1030"/>
            <p:cNvSpPr/>
            <p:nvPr/>
          </p:nvSpPr>
          <p:spPr>
            <a:xfrm>
              <a:off x="227160" y="1536480"/>
              <a:ext cx="398520" cy="30816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Freeform 1031"/>
            <p:cNvSpPr/>
            <p:nvPr/>
          </p:nvSpPr>
          <p:spPr>
            <a:xfrm>
              <a:off x="560520" y="1109520"/>
              <a:ext cx="252360" cy="11448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1032"/>
            <p:cNvSpPr/>
            <p:nvPr/>
          </p:nvSpPr>
          <p:spPr>
            <a:xfrm>
              <a:off x="793800" y="1109520"/>
              <a:ext cx="722160" cy="34308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Freeform 1033"/>
            <p:cNvSpPr/>
            <p:nvPr/>
          </p:nvSpPr>
          <p:spPr>
            <a:xfrm>
              <a:off x="2317680" y="1168200"/>
              <a:ext cx="657360" cy="17136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1034"/>
            <p:cNvSpPr/>
            <p:nvPr/>
          </p:nvSpPr>
          <p:spPr>
            <a:xfrm>
              <a:off x="2860560" y="1109520"/>
              <a:ext cx="825480" cy="35712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035"/>
            <p:cNvSpPr/>
            <p:nvPr/>
          </p:nvSpPr>
          <p:spPr>
            <a:xfrm>
              <a:off x="3103560" y="1353960"/>
              <a:ext cx="684360" cy="37008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036"/>
            <p:cNvSpPr/>
            <p:nvPr/>
          </p:nvSpPr>
          <p:spPr>
            <a:xfrm>
              <a:off x="3610080" y="1247760"/>
              <a:ext cx="628560" cy="36036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1037"/>
            <p:cNvSpPr/>
            <p:nvPr/>
          </p:nvSpPr>
          <p:spPr>
            <a:xfrm>
              <a:off x="3613320" y="1490400"/>
              <a:ext cx="819000" cy="35424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1038"/>
            <p:cNvSpPr/>
            <p:nvPr/>
          </p:nvSpPr>
          <p:spPr>
            <a:xfrm>
              <a:off x="4341960" y="1623960"/>
              <a:ext cx="657000" cy="15876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039"/>
            <p:cNvSpPr/>
            <p:nvPr/>
          </p:nvSpPr>
          <p:spPr>
            <a:xfrm>
              <a:off x="5043600" y="1704960"/>
              <a:ext cx="237960" cy="11412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040"/>
            <p:cNvSpPr/>
            <p:nvPr/>
          </p:nvSpPr>
          <p:spPr>
            <a:xfrm>
              <a:off x="5516640" y="1533240"/>
              <a:ext cx="235080" cy="14472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041"/>
            <p:cNvSpPr/>
            <p:nvPr/>
          </p:nvSpPr>
          <p:spPr>
            <a:xfrm>
              <a:off x="5702400" y="1201680"/>
              <a:ext cx="1488960" cy="25092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1042"/>
            <p:cNvSpPr/>
            <p:nvPr/>
          </p:nvSpPr>
          <p:spPr>
            <a:xfrm>
              <a:off x="5870520" y="1339560"/>
              <a:ext cx="590760" cy="15588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1043"/>
            <p:cNvSpPr/>
            <p:nvPr/>
          </p:nvSpPr>
          <p:spPr>
            <a:xfrm>
              <a:off x="5762520" y="1598400"/>
              <a:ext cx="505080" cy="25092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5000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1044"/>
            <p:cNvSpPr/>
            <p:nvPr/>
          </p:nvSpPr>
          <p:spPr>
            <a:xfrm>
              <a:off x="5437080" y="1571400"/>
              <a:ext cx="603360" cy="27648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1045"/>
            <p:cNvSpPr/>
            <p:nvPr/>
          </p:nvSpPr>
          <p:spPr>
            <a:xfrm>
              <a:off x="6651720" y="1406520"/>
              <a:ext cx="830160" cy="10944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1046"/>
            <p:cNvSpPr/>
            <p:nvPr/>
          </p:nvSpPr>
          <p:spPr>
            <a:xfrm>
              <a:off x="7462800" y="1404720"/>
              <a:ext cx="852480" cy="19044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50000">
                  <a:srgbClr val="9797b7"/>
                </a:gs>
                <a:gs pos="100000">
                  <a:srgbClr val="c7c7d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1047"/>
            <p:cNvSpPr/>
            <p:nvPr/>
          </p:nvSpPr>
          <p:spPr>
            <a:xfrm>
              <a:off x="7905960" y="1604880"/>
              <a:ext cx="1269720" cy="22680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5000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1048"/>
            <p:cNvSpPr/>
            <p:nvPr/>
          </p:nvSpPr>
          <p:spPr>
            <a:xfrm>
              <a:off x="8461440" y="1490400"/>
              <a:ext cx="638280" cy="18252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65" name="Freeform 1050"/>
            <p:cNvSpPr/>
            <p:nvPr/>
          </p:nvSpPr>
          <p:spPr>
            <a:xfrm>
              <a:off x="6435720" y="6184800"/>
              <a:ext cx="2754360" cy="11448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1051"/>
            <p:cNvSpPr/>
            <p:nvPr/>
          </p:nvSpPr>
          <p:spPr>
            <a:xfrm>
              <a:off x="2762280" y="6170400"/>
              <a:ext cx="4214520" cy="9540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1052"/>
            <p:cNvSpPr/>
            <p:nvPr/>
          </p:nvSpPr>
          <p:spPr>
            <a:xfrm>
              <a:off x="20520" y="6161040"/>
              <a:ext cx="3240000" cy="9828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1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1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1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1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1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1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1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746CD-5C75-42E9-8A2D-6635248DA59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10AE2-7C75-4302-BD26-B30B045327A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jpeg"/><Relationship Id="rId3" Type="http://schemas.openxmlformats.org/officeDocument/2006/relationships/audio" Target="file:///tmp/home/.config/libreoffice/4/user/gallery/click.wav" TargetMode="External"/><Relationship Id="rId4" Type="http://schemas.microsoft.com/office/2007/relationships/media" Target="file:///tmp/home/.config/libreoffice/4/user/gallery/click.wav" TargetMode="External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gi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image" Target="../media/image24.pn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19.gi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3708360" y="0"/>
            <a:ext cx="5435640" cy="685800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1116000" y="1484280"/>
            <a:ext cx="1409760" cy="176544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441360" y="99684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357280" y="371628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住我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8317080" y="595008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" restart="whenNotActive" nodeType="interactiveSeq" fill="hold">
                <p:stCondLst>
                  <p:cond evt="onClick">
                    <p:tgtEl>
                      <p:spTgt spid="154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154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81168" fill="hold"/>
                                        <p:tgtEl>
                                          <p:spTgt spid="1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0" y="-25560"/>
            <a:ext cx="9137520" cy="685656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3564000" y="1339920"/>
            <a:ext cx="3504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Verdana"/>
                <a:ea typeface="隶书"/>
              </a:rPr>
              <a:t>分歧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5280" y="1197000"/>
            <a:ext cx="25909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Verdana"/>
                <a:ea typeface="隶书"/>
              </a:rPr>
              <a:t>母亲走大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Verdana"/>
                <a:ea typeface="隶书"/>
              </a:rPr>
              <a:t>大路平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869080" y="1123920"/>
            <a:ext cx="30477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Verdana"/>
                <a:ea typeface="隶书"/>
              </a:rPr>
              <a:t>儿子走小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Verdana"/>
                <a:ea typeface="隶书"/>
              </a:rPr>
              <a:t>小路有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629080" y="1628640"/>
            <a:ext cx="914400" cy="381240"/>
          </a:xfrm>
          <a:prstGeom prst="leftArrow">
            <a:avLst>
              <a:gd name="adj1" fmla="val 50000"/>
              <a:gd name="adj2" fmla="val 59962"/>
            </a:avLst>
          </a:prstGeom>
          <a:solidFill>
            <a:srgbClr val="66ff33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076720" y="1628640"/>
            <a:ext cx="685800" cy="381240"/>
          </a:xfrm>
          <a:prstGeom prst="rightArrow">
            <a:avLst>
              <a:gd name="adj1" fmla="val 50000"/>
              <a:gd name="adj2" fmla="val 44972"/>
            </a:avLst>
          </a:prstGeom>
          <a:solidFill>
            <a:srgbClr val="66ff33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627280" y="2421000"/>
            <a:ext cx="3168720" cy="76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ff"/>
                </a:solidFill>
                <a:latin typeface="Verdana"/>
                <a:ea typeface="隶书"/>
              </a:rPr>
              <a:t>我（</a:t>
            </a:r>
            <a:r>
              <a:rPr b="1" lang="zh-CN" sz="3200" spc="-1" strike="noStrike">
                <a:solidFill>
                  <a:srgbClr val="0066ff"/>
                </a:solidFill>
                <a:latin typeface="Verdana"/>
                <a:ea typeface="隶书"/>
              </a:rPr>
              <a:t>责任重大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3"/>
          <a:stretch/>
        </p:blipFill>
        <p:spPr>
          <a:xfrm>
            <a:off x="4068720" y="692280"/>
            <a:ext cx="503280" cy="79992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4"/>
          <a:srcRect l="0" t="0" r="-1975" b="46406"/>
          <a:stretch/>
        </p:blipFill>
        <p:spPr>
          <a:xfrm>
            <a:off x="1908000" y="3359160"/>
            <a:ext cx="5328000" cy="342756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0" y="-25560"/>
            <a:ext cx="9144000" cy="700092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1835280" y="2565360"/>
            <a:ext cx="76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66ff"/>
                </a:solidFill>
                <a:latin typeface="Verdana"/>
                <a:ea typeface="隶书"/>
              </a:rPr>
              <a:t>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52680" y="2133720"/>
            <a:ext cx="685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ff"/>
                </a:solidFill>
                <a:latin typeface="Verdana"/>
                <a:ea typeface="隶书"/>
              </a:rPr>
              <a:t>委屈儿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86400" y="1676520"/>
            <a:ext cx="762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ff"/>
                </a:solidFill>
                <a:latin typeface="Verdana"/>
                <a:ea typeface="隶书"/>
              </a:rPr>
              <a:t>母亲改变主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419720" y="2133720"/>
            <a:ext cx="685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ff"/>
                </a:solidFill>
                <a:latin typeface="Verdana"/>
                <a:ea typeface="隶书"/>
              </a:rPr>
              <a:t>走大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781680" y="2057400"/>
            <a:ext cx="685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ff"/>
                </a:solidFill>
                <a:latin typeface="Verdana"/>
                <a:ea typeface="隶书"/>
              </a:rPr>
              <a:t>走小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590920" y="2819520"/>
            <a:ext cx="609480" cy="380880"/>
          </a:xfrm>
          <a:prstGeom prst="rightArrow">
            <a:avLst>
              <a:gd name="adj1" fmla="val 50000"/>
              <a:gd name="adj2" fmla="val 40005"/>
            </a:avLst>
          </a:prstGeom>
          <a:solidFill>
            <a:srgbClr val="66ff33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962520" y="2895480"/>
            <a:ext cx="609480" cy="381240"/>
          </a:xfrm>
          <a:prstGeom prst="rightArrow">
            <a:avLst>
              <a:gd name="adj1" fmla="val 50000"/>
              <a:gd name="adj2" fmla="val 39967"/>
            </a:avLst>
          </a:prstGeom>
          <a:solidFill>
            <a:srgbClr val="66ff33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029200" y="2971800"/>
            <a:ext cx="609480" cy="380880"/>
          </a:xfrm>
          <a:prstGeom prst="rightArrow">
            <a:avLst>
              <a:gd name="adj1" fmla="val 50000"/>
              <a:gd name="adj2" fmla="val 40005"/>
            </a:avLst>
          </a:prstGeom>
          <a:solidFill>
            <a:srgbClr val="66ff33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72200" y="2895480"/>
            <a:ext cx="609480" cy="381240"/>
          </a:xfrm>
          <a:prstGeom prst="rightArrow">
            <a:avLst>
              <a:gd name="adj1" fmla="val 50000"/>
              <a:gd name="adj2" fmla="val 39967"/>
            </a:avLst>
          </a:prstGeom>
          <a:solidFill>
            <a:srgbClr val="66ff33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47640" y="1484280"/>
            <a:ext cx="243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Verdana"/>
                <a:ea typeface="华文行楷"/>
              </a:rPr>
              <a:t>孝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877080" y="148428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华文行楷"/>
              </a:rPr>
              <a:t>慈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971640" y="5157720"/>
            <a:ext cx="785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华文行楷"/>
                <a:ea typeface="华文行楷"/>
              </a:rPr>
              <a:t>一家人：尊老爱幼， 相亲相爱，   温馨和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6324480"/>
            <a:ext cx="685800" cy="533520"/>
          </a:xfrm>
          <a:custGeom>
            <a:avLst/>
            <a:gdLst>
              <a:gd name="textAreaLeft" fmla="*/ 33120 w 685800"/>
              <a:gd name="textAreaRight" fmla="*/ 652680 w 685800"/>
              <a:gd name="textAreaTop" fmla="*/ 33120 h 533520"/>
              <a:gd name="textAreaBottom" fmla="*/ 50040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411" y="1350"/>
                </a:lnTo>
                <a:lnTo>
                  <a:pt x="1350" y="135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411" y="20250"/>
                </a:lnTo>
                <a:lnTo>
                  <a:pt x="26411" y="135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6411" y="2025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7761" h="21600">
                <a:moveTo>
                  <a:pt x="6837" y="10800"/>
                </a:moveTo>
                <a:lnTo>
                  <a:pt x="20924" y="3756"/>
                </a:lnTo>
                <a:lnTo>
                  <a:pt x="20924" y="17844"/>
                </a:lnTo>
                <a:close/>
              </a:path>
            </a:pathLst>
          </a:custGeom>
          <a:solidFill>
            <a:srgbClr val="66ff33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0920" y="62064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因为我伴同儿子的时日还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flipH="1" rot="4020000">
            <a:off x="3489120" y="1558440"/>
            <a:ext cx="981000" cy="257040"/>
          </a:xfrm>
          <a:prstGeom prst="rightArrow">
            <a:avLst>
              <a:gd name="adj1" fmla="val 50000"/>
              <a:gd name="adj2" fmla="val 95413"/>
            </a:avLst>
          </a:prstGeom>
          <a:solidFill>
            <a:srgbClr val="66ff33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580000" y="476280"/>
            <a:ext cx="352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疼爱孙子，满足他的想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498080" y="1123920"/>
            <a:ext cx="118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（“摸摸”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500"/>
                            </p:stCondLst>
                            <p:childTnLst>
                              <p:par>
                                <p:cTn id="6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000"/>
                            </p:stCondLst>
                            <p:childTnLst>
                              <p:par>
                                <p:cTn id="7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500"/>
                            </p:stCondLst>
                            <p:childTnLst>
                              <p:par>
                                <p:cTn id="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9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3" dur="2000" fill="hold"/>
                                        <p:tgtEl>
                                          <p:spTgt spid="20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500"/>
                            </p:stCondLst>
                            <p:childTnLst>
                              <p:par>
                                <p:cTn id="10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1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5" dur="2000" fill="hold"/>
                                        <p:tgtEl>
                                          <p:spTgt spid="20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468000" y="406440"/>
            <a:ext cx="828036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宋体"/>
              </a:rPr>
              <a:t>结合课文说说“我”这个人怎么样？妻子、母亲、儿子的性情又怎样？（结合文中能够反映人物性格的语句说一说）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39640" y="2852640"/>
            <a:ext cx="8229600" cy="302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我： 　　</a:t>
            </a:r>
            <a:br>
              <a:rPr sz="3600"/>
            </a:b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我的母亲：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 </a:t>
            </a: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我的妻子： 　　</a:t>
            </a:r>
            <a:br>
              <a:rPr sz="3600"/>
            </a:b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我的儿子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345840" y="29242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Arial"/>
              </a:rPr>
              <a:t>孝顺善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345840" y="3573360"/>
            <a:ext cx="1034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Arial"/>
              </a:rPr>
              <a:t>慈爱亲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417480" y="41497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Arial"/>
              </a:rPr>
              <a:t>温柔贤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561840" y="4724280"/>
            <a:ext cx="1034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Arial"/>
              </a:rPr>
              <a:t>聪明乖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-34920" y="765000"/>
            <a:ext cx="914256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、文章哪几个段落有写景的片段？分别写了哪些景物？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800" y="4495680"/>
            <a:ext cx="957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914400" y="2971800"/>
            <a:ext cx="990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52360" y="1844640"/>
            <a:ext cx="15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第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段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37240" y="4076640"/>
            <a:ext cx="118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第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7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段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2050920" y="189000"/>
            <a:ext cx="511344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方正稚艺简体"/>
              </a:rPr>
              <a:t>咏读入理   品味探究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方正稚艺简体"/>
              <a:ea typeface="方正稚艺简体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-106200" y="4869000"/>
            <a:ext cx="2209680" cy="236052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1403280" y="1484280"/>
            <a:ext cx="76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这南方初春的田野，大块小块的新绿随意地铺着，有的浓，有的淡；树上的嫩芽也密了；田里的冬水也咕咕地起着水泡。这一切都使人想着一样东西——生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332000" y="4005360"/>
            <a:ext cx="734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那里有金色的菜花，两行整齐的桑树，尽头一口水波粼粼的鱼塘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187280" y="2852640"/>
            <a:ext cx="705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Arial"/>
              </a:rPr>
              <a:t>突出初春蓬勃旺盛的生机，是对生命的高歌，是对生命力的礼赞，生命的热爱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411280" y="4940280"/>
            <a:ext cx="590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Arial"/>
              </a:rPr>
              <a:t>这些美景表明春天在召唤，生命在呼唤，流露出作者对生活的珍爱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  <p:sndAc>
      <p:stSnd>
        <p:snd r:embed="rId2" name="click.wav"/>
      </p:stSnd>
    </p:sndAc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324000" y="1268280"/>
            <a:ext cx="85341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示例一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方正艺黑简体"/>
              </a:rPr>
              <a:t>“今年的春天来得</a:t>
            </a:r>
            <a:r>
              <a:rPr b="1" lang="zh-CN" sz="2400" spc="-1" strike="noStrike">
                <a:solidFill>
                  <a:srgbClr val="ff6600"/>
                </a:solidFill>
                <a:latin typeface="宋体"/>
                <a:ea typeface="方正艺黑简体"/>
              </a:rPr>
              <a:t>太迟，太迟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方正艺黑简体"/>
              </a:rPr>
              <a:t>了，有一些老人挺不住。但是春天总算来了。我的母亲又</a:t>
            </a:r>
            <a:r>
              <a:rPr b="1" lang="zh-CN" sz="2400" spc="-1" strike="noStrike">
                <a:solidFill>
                  <a:srgbClr val="ff6600"/>
                </a:solidFill>
                <a:latin typeface="宋体"/>
                <a:ea typeface="方正艺黑简体"/>
              </a:rPr>
              <a:t>熬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方正艺黑简体"/>
              </a:rPr>
              <a:t>过了一个严冬。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2124000" y="117360"/>
            <a:ext cx="4753080" cy="100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6600"/>
                </a:solidFill>
                <a:latin typeface="宋体"/>
              </a:rPr>
              <a:t>品位语言 </a:t>
            </a:r>
            <a:endParaRPr b="1" lang="en-US" sz="4800" spc="-1" strike="noStrike">
              <a:ln w="9360">
                <a:solidFill>
                  <a:srgbClr val="00ff00"/>
                </a:solidFill>
                <a:miter/>
              </a:ln>
              <a:solidFill>
                <a:srgbClr val="ff6600"/>
              </a:solidFill>
              <a:latin typeface="宋体"/>
              <a:ea typeface="宋体"/>
            </a:endParaRPr>
          </a:p>
        </p:txBody>
      </p:sp>
      <p:sp>
        <p:nvSpPr>
          <p:cNvPr id="232" name=""/>
          <p:cNvSpPr/>
          <p:nvPr/>
        </p:nvSpPr>
        <p:spPr>
          <a:xfrm>
            <a:off x="466560" y="2276640"/>
            <a:ext cx="83059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宋体"/>
                <a:ea typeface="华文行楷"/>
              </a:rPr>
              <a:t>　</a:t>
            </a:r>
            <a:r>
              <a:rPr b="1" lang="zh-CN" sz="3200" spc="-1" strike="noStrike">
                <a:solidFill>
                  <a:srgbClr val="993300"/>
                </a:solidFill>
                <a:latin typeface="宋体"/>
                <a:ea typeface="华文行楷"/>
              </a:rPr>
              <a:t>这里运用了反复的修辞手法，以及富有表现力的词语，表现了我对母亲健康的担忧，体现了我的一片孝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39640" y="4186440"/>
            <a:ext cx="778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小家伙突然叫起来：‘前面也是妈妈和儿子，后面也是妈妈和儿子’我们都笑了。”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儿子的话表现了什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39640" y="5365800"/>
            <a:ext cx="813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明确：孩子的话充满了童趣，孩子觉得他得到了一个很大的新发现。这里</a:t>
            </a:r>
            <a:r>
              <a:rPr b="1" lang="zh-CN" sz="28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既表现了小家伙的天真可爱、聪明智慧，又表现了家庭的幸福、温馨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  <p:sndAc>
      <p:stSnd>
        <p:snd r:embed="rId1" name="chimes.wav"/>
      </p:stSnd>
    </p:sndAc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2" dur="8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3" dur="8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4" dur="8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539640" y="1052640"/>
            <a:ext cx="87631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_GB2312"/>
              </a:rPr>
              <a:t>示例二  </a:t>
            </a:r>
            <a:r>
              <a:rPr b="1" lang="zh-CN" sz="2800" spc="-1" strike="noStrike">
                <a:solidFill>
                  <a:srgbClr val="000000"/>
                </a:solidFill>
                <a:latin typeface="方正艺黑简体"/>
                <a:ea typeface="方正艺黑简体"/>
              </a:rPr>
              <a:t>“一霎时，我感到了责任的重大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826920" y="2205000"/>
            <a:ext cx="756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00"/>
                </a:solidFill>
                <a:latin typeface="宋体"/>
                <a:ea typeface="华文行楷"/>
              </a:rPr>
              <a:t>这里大词小用，突出了我身为一家之主的重大的责任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6" dur="8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7" dur="8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8" dur="8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250920" y="476280"/>
            <a:ext cx="8772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imes New Roman"/>
              </a:rPr>
              <a:t>        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但我和妻子都是慢慢地，稳稳地，走得很仔细，好像我背上的同她背上的加起来，就是整个</a:t>
            </a:r>
            <a:r>
              <a:rPr b="1" lang="zh-CN" sz="2800" spc="-1" strike="noStrike">
                <a:solidFill>
                  <a:srgbClr val="ff6600"/>
                </a:solidFill>
                <a:latin typeface="Times New Roman"/>
                <a:ea typeface="楷体_GB2312"/>
              </a:rPr>
              <a:t>世界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。”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为什么把“我”背母亲，妻背儿子描写得那么郑重其事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95280" y="2060640"/>
            <a:ext cx="5329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从字面上看，是形容他们走得小心，走的是小路，惟恐哪一步有闪失，特别是母亲，是经不起摔的，非稳当不可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这里象征着 ：</a:t>
            </a:r>
            <a:r>
              <a:rPr b="1" lang="zh-CN" sz="28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我和妻子都意识到中年的责任重大，既要赡养老一代，又要抚养下一代，肩负着承前启后的重大使命 。一个家庭是这样，一个民族、一个国家又何尝不是这样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718080" y="3830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5940360" y="2421000"/>
            <a:ext cx="3100320" cy="3700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395280" y="1628280"/>
            <a:ext cx="8229600" cy="492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）有的浓，有的淡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）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我和母亲走在前面，我的妻子和儿子走在后面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）前面也是妈妈和儿子，后面也是妈妈和儿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）母亲要走大路，大路平顺；我的儿子要走小路，小路有意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5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）我的母亲老了，她早已习惯听从她强壮的儿子；我的儿子还小，他还习惯听从他高大的父亲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6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）我蹲下来，背起了母亲，妻子也蹲下来，背起了儿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7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）我的母亲虽然高大，然而很瘦，自然不算重；儿子虽然很胖，毕竟幼小，自然也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5280" y="476280"/>
            <a:ext cx="8748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本文两两对称的句子很多，找出来，品味语言的精美。</a:t>
            </a: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500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2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650880" y="391644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小  事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146560" y="3763800"/>
            <a:ext cx="29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中   心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79280" y="2349360"/>
            <a:ext cx="3672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66ff33"/>
                </a:solidFill>
                <a:latin typeface="Times New Roman"/>
                <a:ea typeface="华文行楷"/>
              </a:rPr>
              <a:t>以小见大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470400" y="4145040"/>
            <a:ext cx="1447560" cy="533160"/>
          </a:xfrm>
          <a:prstGeom prst="rightArrow">
            <a:avLst>
              <a:gd name="adj1" fmla="val 50000"/>
              <a:gd name="adj2" fmla="val 67876"/>
            </a:avLst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50880" y="5759280"/>
            <a:ext cx="2971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Verdana"/>
                <a:ea typeface="楷体_GB2312"/>
              </a:rPr>
              <a:t>散  步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994280" y="5759280"/>
            <a:ext cx="38862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Verdana"/>
                <a:ea typeface="楷体_GB2312"/>
              </a:rPr>
              <a:t>尊老爱幼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470400" y="6095880"/>
            <a:ext cx="1447560" cy="533520"/>
          </a:xfrm>
          <a:prstGeom prst="rightArrow">
            <a:avLst>
              <a:gd name="adj1" fmla="val 50000"/>
              <a:gd name="adj2" fmla="val 67831"/>
            </a:avLst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717560" y="4952880"/>
            <a:ext cx="486000" cy="1281240"/>
          </a:xfrm>
          <a:prstGeom prst="downArrow">
            <a:avLst>
              <a:gd name="adj1" fmla="val 50000"/>
              <a:gd name="adj2" fmla="val 659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594480" y="4800600"/>
            <a:ext cx="485640" cy="1281240"/>
          </a:xfrm>
          <a:prstGeom prst="downArrow">
            <a:avLst>
              <a:gd name="adj1" fmla="val 50000"/>
              <a:gd name="adj2" fmla="val 6595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3708360" y="0"/>
            <a:ext cx="5435640" cy="350028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 txBox="1"/>
          <p:nvPr/>
        </p:nvSpPr>
        <p:spPr>
          <a:xfrm>
            <a:off x="179280" y="189000"/>
            <a:ext cx="3124440" cy="1676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effectLst>
                  <a:outerShdw dist="53966" dir="2700000" blurRad="0" rotWithShape="0">
                    <a:srgbClr val="c0c0c0"/>
                  </a:outerShdw>
                </a:effectLst>
                <a:latin typeface="华文行楷"/>
              </a:rPr>
              <a:t>教你一招：</a:t>
            </a:r>
            <a:endParaRPr b="0" lang="en-US" sz="1800" spc="-1" strike="noStrike">
              <a:ln w="9360">
                <a:solidFill>
                  <a:srgbClr val="ff0000"/>
                </a:solidFill>
                <a:miter/>
              </a:ln>
              <a:solidFill>
                <a:srgbClr val="ffff00"/>
              </a:solidFill>
              <a:effectLst>
                <a:outerShdw dist="53966" dir="2700000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255" name=""/>
          <p:cNvSpPr/>
          <p:nvPr/>
        </p:nvSpPr>
        <p:spPr>
          <a:xfrm>
            <a:off x="5651640" y="549360"/>
            <a:ext cx="3024000" cy="83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3300"/>
                </a:solidFill>
                <a:latin typeface="Times New Roman"/>
                <a:ea typeface="隶书"/>
              </a:rPr>
              <a:t>写法借鉴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2"/>
          <a:stretch/>
        </p:blipFill>
        <p:spPr>
          <a:xfrm>
            <a:off x="5148360" y="692280"/>
            <a:ext cx="2160360" cy="206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-608040" y="-455760"/>
            <a:ext cx="9752040" cy="731376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179280" y="1557360"/>
            <a:ext cx="849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隶书"/>
                <a:ea typeface="隶书"/>
              </a:rPr>
              <a:t>    </a:t>
            </a:r>
            <a:r>
              <a:rPr b="1" lang="zh-CN" sz="4000" spc="-1" strike="noStrike">
                <a:solidFill>
                  <a:srgbClr val="0033cc"/>
                </a:solidFill>
                <a:latin typeface="隶书"/>
                <a:ea typeface="隶书"/>
              </a:rPr>
              <a:t>同学们，</a:t>
            </a:r>
            <a:r>
              <a:rPr b="1" lang="zh-CN" sz="4000" spc="-1" strike="noStrike">
                <a:solidFill>
                  <a:srgbClr val="0033cc"/>
                </a:solidFill>
                <a:latin typeface="华文行楷"/>
                <a:ea typeface="华文行楷"/>
              </a:rPr>
              <a:t>亲情不单靠今天课堂上片刻的时间来体会，它更需要我们用一生的光阴来感悟。亲情不单是父母无条件的付出，它更应该是儿女们无言的回报。让我们的家永远洋溢着亲情，让我们的家永远充满爱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468360" y="333360"/>
            <a:ext cx="2438280" cy="93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650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华文行楷"/>
              </a:rPr>
              <a:t>教师心语</a:t>
            </a:r>
            <a:endParaRPr b="1" lang="en-US" sz="4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2"/>
          <a:stretch/>
        </p:blipFill>
        <p:spPr>
          <a:xfrm>
            <a:off x="250920" y="1700280"/>
            <a:ext cx="257040" cy="25236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3"/>
          <a:stretch/>
        </p:blipFill>
        <p:spPr>
          <a:xfrm>
            <a:off x="3419640" y="260280"/>
            <a:ext cx="514080" cy="50328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4"/>
          <a:stretch/>
        </p:blipFill>
        <p:spPr>
          <a:xfrm>
            <a:off x="1763640" y="5734080"/>
            <a:ext cx="433440" cy="42372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5"/>
          <a:stretch/>
        </p:blipFill>
        <p:spPr>
          <a:xfrm>
            <a:off x="5292720" y="4797360"/>
            <a:ext cx="360360" cy="35244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6"/>
          <a:stretch/>
        </p:blipFill>
        <p:spPr>
          <a:xfrm>
            <a:off x="8388360" y="2133720"/>
            <a:ext cx="433440" cy="42372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7"/>
          <a:stretch/>
        </p:blipFill>
        <p:spPr>
          <a:xfrm>
            <a:off x="6443640" y="836640"/>
            <a:ext cx="432000" cy="42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66560" y="764640"/>
            <a:ext cx="8229600" cy="452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zh-CN" sz="4800" spc="-1" strike="noStrike">
                <a:solidFill>
                  <a:srgbClr val="333399"/>
                </a:solidFill>
                <a:latin typeface="Arial"/>
              </a:rPr>
              <a:t>其实，在我们成长的过程中一直沐浴着亲情。如日常生活中全家人一起吃饭、看电视、聊天等等。哪怕是一家人一起散步这样平常的小事，也能体现出浓浓的亲情。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609480" y="1828800"/>
            <a:ext cx="7848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赶快为你的父母尽一份孝心。也许是一处豪宅，也许是一片砖瓦。也许是一桌山珍海味，也许是一只野果一朵小花。也许是数以万计的金钱，也许只是含着体温的一枚硬币……但“孝”的天平上，它们等值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752480" y="6094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676520" y="685800"/>
            <a:ext cx="5943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imes New Roman"/>
                <a:ea typeface="方正舒体"/>
              </a:rPr>
              <a:t>孝心无价（节选）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毕淑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/>
          </p:nvPr>
        </p:nvSpPr>
        <p:spPr>
          <a:xfrm>
            <a:off x="466200" y="4652640"/>
            <a:ext cx="7939080" cy="115884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1" lang="zh-CN" sz="2400" spc="-1" strike="noStrike">
                <a:solidFill>
                  <a:srgbClr val="990033"/>
                </a:solidFill>
                <a:latin typeface="楷体_GB2312"/>
                <a:ea typeface="楷体_GB2312"/>
              </a:rPr>
              <a:t>用心发现自己家庭生活中的细节，并将感想写成一篇随笔。题目：</a:t>
            </a:r>
            <a:r>
              <a:rPr b="1" lang="zh-CN" sz="2400" spc="-1" strike="noStrike" u="sng">
                <a:solidFill>
                  <a:srgbClr val="990033"/>
                </a:solidFill>
                <a:uFillTx/>
                <a:latin typeface="楷体_GB2312"/>
                <a:ea typeface="楷体_GB2312"/>
              </a:rPr>
              <a:t>《我爱我家》《有家真好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8360" y="2349360"/>
            <a:ext cx="8064360" cy="19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00cc00"/>
                </a:solidFill>
                <a:uFillTx/>
                <a:latin typeface="Times New Roman"/>
              </a:rPr>
              <a:t>家庭是一个人成长的摇篮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cc00"/>
                </a:solidFill>
                <a:latin typeface="Times New Roman"/>
              </a:rPr>
              <a:t>       </a:t>
            </a:r>
            <a:r>
              <a:rPr b="1" lang="zh-CN" sz="4000" spc="-1" strike="noStrike" u="sng">
                <a:solidFill>
                  <a:srgbClr val="00cc00"/>
                </a:solidFill>
                <a:uFillTx/>
                <a:latin typeface="Times New Roman"/>
              </a:rPr>
              <a:t>浓浓的亲情不止在作者笔下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cc00"/>
                </a:solidFill>
                <a:latin typeface="Times New Roman"/>
              </a:rPr>
              <a:t>              </a:t>
            </a:r>
            <a:r>
              <a:rPr b="1" lang="zh-CN" sz="4000" spc="-1" strike="noStrike" u="sng">
                <a:solidFill>
                  <a:srgbClr val="00cc00"/>
                </a:solidFill>
                <a:uFillTx/>
                <a:latin typeface="Times New Roman"/>
              </a:rPr>
              <a:t>更萦绕在每一位同学身边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2"/>
          <a:stretch/>
        </p:blipFill>
        <p:spPr>
          <a:xfrm>
            <a:off x="6588000" y="189000"/>
            <a:ext cx="2322720" cy="280836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 txBox="1"/>
          <p:nvPr/>
        </p:nvSpPr>
        <p:spPr>
          <a:xfrm>
            <a:off x="1692360" y="765000"/>
            <a:ext cx="439236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方正毡笔黑简体"/>
              </a:rPr>
              <a:t>课后作业 感恩亲情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方正毡笔黑简体"/>
              <a:ea typeface="方正毡笔黑简体"/>
            </a:endParaRPr>
          </a:p>
        </p:txBody>
      </p:sp>
    </p:spTree>
  </p:cSld>
  <p:transition>
    <p:checker dir="vert"/>
    <p:sndAc>
      <p:stSnd>
        <p:snd r:embed="rId3" name="chimes.wav"/>
      </p:stSnd>
    </p:sndAc>
  </p:transition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1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8" dur="100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5850000" y="2708280"/>
            <a:ext cx="3294000" cy="414972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 txBox="1"/>
          <p:nvPr/>
        </p:nvSpPr>
        <p:spPr>
          <a:xfrm>
            <a:off x="2340000" y="836640"/>
            <a:ext cx="360036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黑体"/>
              </a:rPr>
              <a:t>散步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2411280" y="4437000"/>
            <a:ext cx="331308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楷体_GB2312"/>
              </a:rPr>
              <a:t>莫怀戚</a:t>
            </a:r>
            <a:endParaRPr b="1" lang="en-US" sz="1800" spc="-1" strike="noStrike">
              <a:ln w="9360">
                <a:solidFill>
                  <a:srgbClr val="ff0000"/>
                </a:solidFill>
                <a:miter/>
              </a:ln>
              <a:solidFill>
                <a:srgbClr val="ff00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44688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关于作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莫怀戚：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95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年出生，男，汉族。笔名周平安、章大明。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当代作家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中国作家协会会员，重庆作协副主席，重庆人。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98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年毕业于四川大学中文系。 现为重庆师范大学文学与新闻学院新闻系副主任、教授。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98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年开始文学创作，其中篇小说《诗礼人家》曾获“四川文学”奖。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著有《莫怀戚中短篇小说选》、小说集《大律师现实录》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684360" y="1052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ff"/>
                </a:solidFill>
                <a:latin typeface="宋体"/>
              </a:rPr>
              <a:t>1.</a:t>
            </a:r>
            <a:r>
              <a:rPr b="1" lang="zh-CN" sz="4400" spc="-1" strike="noStrike">
                <a:solidFill>
                  <a:srgbClr val="0066ff"/>
                </a:solidFill>
                <a:latin typeface="宋体"/>
              </a:rPr>
              <a:t>指导学生积累生字</a:t>
            </a:r>
            <a:endParaRPr b="1" lang="en-US" sz="4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45472"/>
                </a:solidFill>
                <a:latin typeface="Verdana"/>
                <a:ea typeface="宋体"/>
              </a:rPr>
              <a:t>熬</a:t>
            </a:r>
            <a:r>
              <a:rPr b="1" lang="zh-CN" sz="3600" spc="-1" strike="noStrike">
                <a:solidFill>
                  <a:srgbClr val="ff3300"/>
                </a:solidFill>
                <a:latin typeface="Verdana"/>
                <a:ea typeface="宋体"/>
              </a:rPr>
              <a:t>（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宋体"/>
              </a:rPr>
              <a:t>á</a:t>
            </a:r>
            <a:r>
              <a:rPr b="1" lang="zh-CN" sz="3600" spc="-1" strike="noStrike">
                <a:solidFill>
                  <a:srgbClr val="ff3300"/>
                </a:solidFill>
                <a:latin typeface="Verdana"/>
                <a:ea typeface="宋体"/>
              </a:rPr>
              <a:t>o</a:t>
            </a:r>
            <a:r>
              <a:rPr b="1" lang="zh-CN" sz="3600" spc="-1" strike="noStrike">
                <a:solidFill>
                  <a:srgbClr val="ff3300"/>
                </a:solidFill>
                <a:latin typeface="Verdana"/>
                <a:ea typeface="宋体"/>
              </a:rPr>
              <a:t>）</a:t>
            </a:r>
            <a:r>
              <a:rPr b="1" lang="zh-CN" sz="3600" spc="-1" strike="noStrike">
                <a:solidFill>
                  <a:srgbClr val="545472"/>
                </a:solidFill>
                <a:latin typeface="Verdana"/>
                <a:ea typeface="宋体"/>
              </a:rPr>
              <a:t>分歧</a:t>
            </a:r>
            <a:r>
              <a:rPr b="1" lang="zh-CN" sz="3600" spc="-1" strike="noStrike">
                <a:solidFill>
                  <a:srgbClr val="ff3300"/>
                </a:solidFill>
                <a:latin typeface="Verdana"/>
                <a:ea typeface="宋体"/>
              </a:rPr>
              <a:t>(qí)    </a:t>
            </a:r>
            <a:r>
              <a:rPr b="1" lang="zh-CN" sz="3600" spc="-1" strike="noStrike">
                <a:solidFill>
                  <a:srgbClr val="545472"/>
                </a:solidFill>
                <a:latin typeface="Verdana"/>
                <a:ea typeface="宋体"/>
              </a:rPr>
              <a:t>嫩</a:t>
            </a:r>
            <a:r>
              <a:rPr b="1" lang="zh-CN" sz="3600" spc="-1" strike="noStrike">
                <a:solidFill>
                  <a:srgbClr val="ff3300"/>
                </a:solidFill>
                <a:latin typeface="Verdana"/>
                <a:ea typeface="宋体"/>
              </a:rPr>
              <a:t>(nèn)</a:t>
            </a:r>
            <a:r>
              <a:rPr b="1" lang="zh-CN" sz="3600" spc="-1" strike="noStrike">
                <a:solidFill>
                  <a:srgbClr val="545472"/>
                </a:solidFill>
                <a:latin typeface="Verdana"/>
                <a:ea typeface="宋体"/>
              </a:rPr>
              <a:t>芽</a:t>
            </a:r>
            <a:endParaRPr b="1" lang="en-US" sz="36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45472"/>
                </a:solidFill>
                <a:latin typeface="Verdana"/>
                <a:ea typeface="宋体"/>
              </a:rPr>
              <a:t>霎（</a:t>
            </a:r>
            <a:r>
              <a:rPr b="1" lang="zh-CN" sz="3600" spc="-1" strike="noStrike">
                <a:solidFill>
                  <a:srgbClr val="ff0000"/>
                </a:solidFill>
                <a:latin typeface="Verdana"/>
                <a:ea typeface="宋体"/>
              </a:rPr>
              <a:t>shà</a:t>
            </a:r>
            <a:r>
              <a:rPr b="1" lang="zh-CN" sz="3600" spc="-1" strike="noStrike">
                <a:solidFill>
                  <a:srgbClr val="545472"/>
                </a:solidFill>
                <a:latin typeface="Verdana"/>
                <a:ea typeface="宋体"/>
              </a:rPr>
              <a:t>）时    拆</a:t>
            </a:r>
            <a:r>
              <a:rPr b="1" lang="zh-CN" sz="3600" spc="-1" strike="noStrike">
                <a:solidFill>
                  <a:srgbClr val="ff0000"/>
                </a:solidFill>
                <a:latin typeface="Verdana"/>
                <a:ea typeface="宋体"/>
              </a:rPr>
              <a:t>（</a:t>
            </a:r>
            <a:r>
              <a:rPr b="1" lang="zh-CN" sz="3600" spc="-1" strike="noStrike">
                <a:solidFill>
                  <a:srgbClr val="ff0000"/>
                </a:solidFill>
                <a:latin typeface="Verdana"/>
                <a:ea typeface="宋体"/>
              </a:rPr>
              <a:t>chāi</a:t>
            </a:r>
            <a:r>
              <a:rPr b="1" lang="zh-CN" sz="3600" spc="-1" strike="noStrike">
                <a:solidFill>
                  <a:srgbClr val="ff0000"/>
                </a:solidFill>
                <a:latin typeface="Verdana"/>
                <a:ea typeface="宋体"/>
              </a:rPr>
              <a:t>）</a:t>
            </a:r>
            <a:r>
              <a:rPr b="1" lang="zh-CN" sz="3600" spc="-1" strike="noStrike">
                <a:solidFill>
                  <a:srgbClr val="545472"/>
                </a:solidFill>
                <a:latin typeface="Verdana"/>
                <a:ea typeface="宋体"/>
              </a:rPr>
              <a:t>散</a:t>
            </a:r>
            <a:endParaRPr b="1" lang="en-US" sz="36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45472"/>
                </a:solidFill>
                <a:latin typeface="Verdana"/>
                <a:ea typeface="宋体"/>
              </a:rPr>
              <a:t>水波粼粼</a:t>
            </a:r>
            <a:r>
              <a:rPr b="1" lang="zh-CN" sz="3600" spc="-1" strike="noStrike">
                <a:solidFill>
                  <a:srgbClr val="ff3300"/>
                </a:solidFill>
                <a:latin typeface="Verdana"/>
                <a:ea typeface="宋体"/>
              </a:rPr>
              <a:t>(lín)</a:t>
            </a:r>
            <a:endParaRPr b="1" lang="en-US" sz="36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ransition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Arial"/>
              </a:rPr>
              <a:t>字词把握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4360" y="2349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熬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忍受，艰苦支持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分歧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意见不一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各得其所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每个人或每件事情都得到合适的安顿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5292720" y="189000"/>
            <a:ext cx="3895560" cy="645300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468360" y="1989000"/>
            <a:ext cx="41148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 rot="180000">
            <a:off x="324000" y="44280"/>
            <a:ext cx="424800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9000"/>
                    </a:srgbClr>
                  </a:outerShdw>
                </a:effectLst>
                <a:latin typeface="宋体"/>
              </a:rPr>
              <a:t>朗读课文，整体感知</a:t>
            </a:r>
            <a:endParaRPr b="0" lang="en-US" sz="1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9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71" name=""/>
          <p:cNvSpPr/>
          <p:nvPr/>
        </p:nvSpPr>
        <p:spPr>
          <a:xfrm>
            <a:off x="324000" y="1989000"/>
            <a:ext cx="5184720" cy="370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思考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、文中写了一件什么事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、散步人有哪些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3</a:t>
            </a:r>
            <a:r>
              <a:rPr b="1" lang="zh-CN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、散步中发生了什么事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4</a:t>
            </a:r>
            <a:r>
              <a:rPr b="1" lang="zh-CN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、结果如何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 txBox="1"/>
          <p:nvPr/>
        </p:nvSpPr>
        <p:spPr>
          <a:xfrm>
            <a:off x="5724360" y="189000"/>
            <a:ext cx="31244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19080">
                  <a:solidFill>
                    <a:srgbClr val="800000"/>
                  </a:solidFill>
                  <a:miter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</a:rPr>
              <a:t>快速抢答</a:t>
            </a:r>
            <a:endParaRPr b="1" lang="en-US" sz="4400" spc="1" strike="noStrike">
              <a:ln w="19080">
                <a:solidFill>
                  <a:srgbClr val="800000"/>
                </a:solidFill>
                <a:miter/>
              </a:ln>
              <a:solidFill>
                <a:srgbClr val="ff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74" name=""/>
          <p:cNvSpPr/>
          <p:nvPr/>
        </p:nvSpPr>
        <p:spPr>
          <a:xfrm>
            <a:off x="324000" y="1557360"/>
            <a:ext cx="8458200" cy="50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这篇文章记叙了一件什么事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散步的人有：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　　　　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散步的地点是：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　　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散步的季节是：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　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散步的过程中发生了：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　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用原文中的一个词来回答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492360" y="3068640"/>
            <a:ext cx="449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母亲、我、妻子、儿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924360" y="386064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田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450864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初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003640" y="5084640"/>
            <a:ext cx="152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分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04920" y="304920"/>
            <a:ext cx="3809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0066"/>
                </a:solidFill>
                <a:latin typeface="Verdana"/>
                <a:ea typeface="方正硬笔行书简体"/>
              </a:rPr>
              <a:t>整体把握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3995640" y="0"/>
            <a:ext cx="1524240" cy="152388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3716640" y="2276640"/>
            <a:ext cx="883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一家人在南方初春的田野散步的事情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782000" y="1981080"/>
            <a:ext cx="1090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1.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说一说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3048120"/>
            <a:ext cx="7086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方正姚体"/>
              </a:rPr>
              <a:t>你能具体地说说</a:t>
            </a:r>
            <a:r>
              <a:rPr b="1" lang="zh-CN" sz="4400" spc="-1" strike="noStrike">
                <a:solidFill>
                  <a:srgbClr val="333399"/>
                </a:solidFill>
                <a:latin typeface="Times New Roman"/>
                <a:ea typeface="方正姚体"/>
              </a:rPr>
              <a:t>散步的时候发生了怎样的</a:t>
            </a:r>
            <a:r>
              <a:rPr b="1" lang="zh-CN" sz="4400" spc="-1" strike="noStrike">
                <a:solidFill>
                  <a:srgbClr val="ff3300"/>
                </a:solidFill>
                <a:latin typeface="Times New Roman"/>
                <a:ea typeface="方正姚体"/>
              </a:rPr>
              <a:t>分歧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方正姚体"/>
              </a:rPr>
              <a:t>吗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380880" y="304920"/>
            <a:ext cx="29718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意境赏析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2T02:32:44Z</dcterms:created>
  <dc:creator>*</dc:creator>
  <dc:description/>
  <dc:language>en-US</dc:language>
  <cp:lastModifiedBy>Lenovo User</cp:lastModifiedBy>
  <cp:lastPrinted>1899-12-30T00:00:00Z</cp:lastPrinted>
  <dcterms:modified xsi:type="dcterms:W3CDTF">2010-11-20T08:04:24Z</dcterms:modified>
  <cp:revision>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089</vt:lpwstr>
  </property>
</Properties>
</file>